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A5A-7FC5-49C3-AA29-0B779C0C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C6D-CCD3-41F6-82E6-CCEA349A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54E5-BE5F-415F-BABC-8661803C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0CF-F891-43DE-B6A7-1F685EA0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37FF-CD6D-4BB6-8394-2C3E3F16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FA33-9ACA-4E3B-AC5B-B87B2FA9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AC30-D5C2-45EC-AFAB-A8A5C5E5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51CA-3F69-4826-A29C-C82E8B3E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7263-016E-469C-B351-B7A30545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196F-7835-4287-96AB-D9899B80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BBCB-ACC3-48F4-BAFC-2148B12B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D68-E0DF-4E67-AB40-CF89C387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CE7C-6285-4105-9330-B4DFAAE6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8BAC-E8D1-4624-8682-17E51677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8662-934F-47B5-85FB-7871378C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F38E-F7C1-42C7-A4B2-C5DB472D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4657-8C79-4F7F-98BA-B930D706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9E4-BF7D-415A-8D43-A82970DD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4C4C-B02B-4AFE-8F74-05EF9784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5ACE-6920-4C4C-9A64-C86DD6B6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DB6-119B-4E48-B862-22058B61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F74-6FF1-464C-88B8-44833020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D9F-A15E-434E-98D5-447EC416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856-5A10-46D3-B1EC-FDF805C6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0217-4BBE-4FC6-8E73-A688CBA1326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5EC5-4A21-4F7E-9FDF-5B42BD33D67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Calibri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24 – 25 </a:t>
            </a:r>
            <a:r>
              <a:rPr b="1" lang="ru-RU" sz="3600" spc="-1" strike="noStrike">
                <a:solidFill>
                  <a:srgbClr val="0066ff"/>
                </a:solidFill>
                <a:latin typeface="Calibri"/>
              </a:rPr>
              <a:t>января 2006 г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Calibri"/>
              </a:rPr>
              <a:t>Распределение аспирантов, обучающихся за счет средств ФБ по отраслям науки и специальност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1268280"/>
          <a:ext cx="8802720" cy="5776920"/>
        </p:xfrm>
        <a:graphic>
          <a:graphicData uri="http://schemas.openxmlformats.org/drawingml/2006/table">
            <a:tbl>
              <a:tblPr/>
              <a:tblGrid>
                <a:gridCol w="3310200"/>
                <a:gridCol w="647640"/>
                <a:gridCol w="647280"/>
                <a:gridCol w="720360"/>
                <a:gridCol w="718560"/>
                <a:gridCol w="649080"/>
                <a:gridCol w="647280"/>
                <a:gridCol w="647280"/>
                <a:gridCol w="601560"/>
                <a:gridCol w="216000"/>
              </a:tblGrid>
              <a:tr h="459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сли науки и специа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й выпуск 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 защитой диссер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-измерительные и управляющие системы (по отрасл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науки о Зем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я суши, гидрохимия, водные ресур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инфор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Подготовка высококвалифицированных кадров (докторантура) в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8360" y="1341360"/>
          <a:ext cx="8229600" cy="5097600"/>
        </p:xfrm>
        <a:graphic>
          <a:graphicData uri="http://schemas.openxmlformats.org/drawingml/2006/table">
            <a:tbl>
              <a:tblPr/>
              <a:tblGrid>
                <a:gridCol w="3251160"/>
                <a:gridCol w="1440000"/>
                <a:gridCol w="936360"/>
                <a:gridCol w="1262160"/>
                <a:gridCol w="1339920"/>
              </a:tblGrid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доктора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й выпуск 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конец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защитой диссер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торанты подготовка которых осуществлена за счет средств федераль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торанты подготовка который осуществлена по прямым договорам с оплатой стоимост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 доктора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ределение докторантов, обучающихся за счет средств ФБ по отраслям науки и специальнос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я суши водные ресурсы, гидрохи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Эффективность деятельности диссертационных советов в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1773360"/>
          <a:ext cx="8713800" cy="4084560"/>
        </p:xfrm>
        <a:graphic>
          <a:graphicData uri="http://schemas.openxmlformats.org/drawingml/2006/table">
            <a:tbl>
              <a:tblPr/>
              <a:tblGrid>
                <a:gridCol w="1944720"/>
                <a:gridCol w="1631880"/>
                <a:gridCol w="1711440"/>
                <a:gridCol w="1712880"/>
                <a:gridCol w="171288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фр со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212.1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ень научных специальностей, по которым проводится защ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8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еоинформатика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6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щищ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сер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Издательская деятельность в 200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050920" y="1125360"/>
          <a:ext cx="5040360" cy="5553360"/>
        </p:xfrm>
        <a:graphic>
          <a:graphicData uri="http://schemas.openxmlformats.org/drawingml/2006/table">
            <a:tbl>
              <a:tblPr/>
              <a:tblGrid>
                <a:gridCol w="3745080"/>
                <a:gridCol w="12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графи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, изд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ими издательствами, 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д-вом «Высш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дательством в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ники научных трудов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еждународных научных конференций симпозиу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ругие сбор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грифом УМО и НМ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грифом Рос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Распределение тем по кол-ву и объему </a:t>
            </a:r>
            <a:br>
              <a:rPr sz="2400"/>
            </a:b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с 2001 по 2005 г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1628640"/>
          <a:ext cx="8929800" cy="4707000"/>
        </p:xfrm>
        <a:graphic>
          <a:graphicData uri="http://schemas.openxmlformats.org/drawingml/2006/table">
            <a:tbl>
              <a:tblPr/>
              <a:tblGrid>
                <a:gridCol w="1584360"/>
                <a:gridCol w="504720"/>
                <a:gridCol w="1079640"/>
                <a:gridCol w="503280"/>
                <a:gridCol w="936720"/>
                <a:gridCol w="504720"/>
                <a:gridCol w="934920"/>
                <a:gridCol w="533520"/>
                <a:gridCol w="906480"/>
                <a:gridCol w="504720"/>
                <a:gridCol w="936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.агентство по обр.(Мин.обр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8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72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9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7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71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. агентство по науке и инн.(Роснау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0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3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8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8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4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8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5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-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контра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8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85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3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1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 4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 36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Calibri"/>
              </a:rPr>
              <a:t>Распределение тем по факультетам за период с 2001 по 2005 г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1600200"/>
          <a:ext cx="8964720" cy="4478400"/>
        </p:xfrm>
        <a:graphic>
          <a:graphicData uri="http://schemas.openxmlformats.org/drawingml/2006/table">
            <a:tbl>
              <a:tblPr/>
              <a:tblGrid>
                <a:gridCol w="1737000"/>
                <a:gridCol w="495000"/>
                <a:gridCol w="936720"/>
                <a:gridCol w="503280"/>
                <a:gridCol w="936720"/>
                <a:gridCol w="504720"/>
                <a:gridCol w="934920"/>
                <a:gridCol w="505080"/>
                <a:gridCol w="934920"/>
                <a:gridCol w="504720"/>
                <a:gridCol w="971640"/>
              </a:tblGrid>
              <a:tr h="31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9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2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3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4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5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5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16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9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8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. нау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7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6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3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49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0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ской институ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ал (Туапс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85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3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1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 4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 36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Эффективность деятельности диссертационных сов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9280" y="2637000"/>
          <a:ext cx="8785440" cy="4262400"/>
        </p:xfrm>
        <a:graphic>
          <a:graphicData uri="http://schemas.openxmlformats.org/drawingml/2006/table">
            <a:tbl>
              <a:tblPr/>
              <a:tblGrid>
                <a:gridCol w="1513080"/>
                <a:gridCol w="2663640"/>
                <a:gridCol w="792360"/>
                <a:gridCol w="792000"/>
                <a:gridCol w="792360"/>
                <a:gridCol w="792000"/>
                <a:gridCol w="647640"/>
                <a:gridCol w="792360"/>
              </a:tblGrid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8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еоинформатика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6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212.1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79280" y="1844640"/>
          <a:ext cx="8785440" cy="1359000"/>
        </p:xfrm>
        <a:graphic>
          <a:graphicData uri="http://schemas.openxmlformats.org/drawingml/2006/table">
            <a:tbl>
              <a:tblPr/>
              <a:tblGrid>
                <a:gridCol w="1513080"/>
                <a:gridCol w="2663640"/>
                <a:gridCol w="3816360"/>
                <a:gridCol w="792360"/>
              </a:tblGrid>
              <a:tr h="136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фр со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ень научных специальностей, по которым проводится защ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щищ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сертаций по год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ленарное засе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907560"/>
            <a:ext cx="822960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ступительное слов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ектор, Л.Н. Карл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аучная деятельность университета в 2005 году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оректор по НР,   В.Н. Воробь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ондратович К.В. (зав. кафедрой ДАКЗ, профессор, д.г.н.) -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 предсказуемости Невских наводн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рсеньев Г.С. (профессор кафедры Гидрологии суши, профессор, д.т.н.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идроэнергоресурсы Сибири и проблемы их исполь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ерехова П.А. (ст. преподаватель кафедры РЯ и СО) –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SP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как коммуникационный процесс (инновационная технолог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митриев В.В. (профессор кафедры Прикладной экологии, д.г.н.) –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азработка государственного образовательного стандарта третьего поколения по экологическим образовательным стандартам в России в свете идеи Болонского проце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Итоговая сессия Ученого совета РГГ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76360" y="2708280"/>
            <a:ext cx="6400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Arial Unicode MS"/>
              </a:rPr>
              <a:t>Научная деятельность университета в 2005 год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Основные научные направления (научные школы)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981000"/>
          <a:ext cx="8259840" cy="5673960"/>
        </p:xfrm>
        <a:graphic>
          <a:graphicData uri="http://schemas.openxmlformats.org/drawingml/2006/table">
            <a:tbl>
              <a:tblPr/>
              <a:tblGrid>
                <a:gridCol w="442440"/>
                <a:gridCol w="6187320"/>
                <a:gridCol w="1414800"/>
                <a:gridCol w="216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научного направления (научной школы)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на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ff"/>
                </a:solidFill>
                <a:latin typeface="Calibri"/>
              </a:rPr>
              <a:t>Участие вуза в выполнении                   федерально-целевых и научно-технических програм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1125360"/>
          <a:ext cx="7129440" cy="6156360"/>
        </p:xfrm>
        <a:graphic>
          <a:graphicData uri="http://schemas.openxmlformats.org/drawingml/2006/table">
            <a:tbl>
              <a:tblPr/>
              <a:tblGrid>
                <a:gridCol w="401760"/>
                <a:gridCol w="3198600"/>
                <a:gridCol w="1513080"/>
                <a:gridCol w="2016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Н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ФЦ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ировой океан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сследования и разработки по приоритетным направлениям развития науки и техник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40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обрна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71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лан В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7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Т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93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Университеты Росс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2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эконом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е програм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гра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36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7680" y="348840"/>
            <a:ext cx="80773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Calibri"/>
              </a:rPr>
              <a:t>Сводные сведения о выполнении НИР в 200</a:t>
            </a:r>
            <a:r>
              <a:rPr b="0" lang="en-US" sz="2900" spc="-1" strike="noStrike">
                <a:solidFill>
                  <a:srgbClr val="0066ff"/>
                </a:solidFill>
                <a:latin typeface="Calibri"/>
              </a:rPr>
              <a:t>5</a:t>
            </a:r>
            <a:r>
              <a:rPr b="0" lang="ru-RU" sz="2900" spc="-1" strike="noStrike">
                <a:solidFill>
                  <a:srgbClr val="0066ff"/>
                </a:solidFill>
                <a:latin typeface="Calibri"/>
              </a:rPr>
              <a:t> год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95280" y="1197000"/>
          <a:ext cx="8302680" cy="5908680"/>
        </p:xfrm>
        <a:graphic>
          <a:graphicData uri="http://schemas.openxmlformats.org/drawingml/2006/table">
            <a:tbl>
              <a:tblPr/>
              <a:tblGrid>
                <a:gridCol w="519120"/>
                <a:gridCol w="3632040"/>
                <a:gridCol w="2076480"/>
                <a:gridCol w="207504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федерального бюдж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образ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науке и инновац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эконом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Субъектов Фед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орган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гра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36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Сведения по НИР за 2005 год                 (по факультетам РГГМ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8000" y="1557360"/>
          <a:ext cx="8751960" cy="4975200"/>
        </p:xfrm>
        <a:graphic>
          <a:graphicData uri="http://schemas.openxmlformats.org/drawingml/2006/table">
            <a:tbl>
              <a:tblPr/>
              <a:tblGrid>
                <a:gridCol w="1473120"/>
                <a:gridCol w="254160"/>
                <a:gridCol w="718920"/>
                <a:gridCol w="150840"/>
                <a:gridCol w="714600"/>
                <a:gridCol w="287280"/>
                <a:gridCol w="647640"/>
                <a:gridCol w="144360"/>
                <a:gridCol w="647640"/>
                <a:gridCol w="289080"/>
                <a:gridCol w="684000"/>
                <a:gridCol w="179640"/>
                <a:gridCol w="609480"/>
                <a:gridCol w="144360"/>
                <a:gridCol w="654120"/>
                <a:gridCol w="289080"/>
                <a:gridCol w="863640"/>
              </a:tblGrid>
              <a:tr h="86364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образо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науке и инновац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е программы (Санкт-Петербург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е гр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4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0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0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ской институ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71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60</a:t>
                      </a: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0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255</a:t>
                      </a: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36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Участие в выставках и конференциях в 200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тавки, всего –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 том числе международные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спонаты, представленные на выставках, 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ференции –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 том числе международные,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сероссийские,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 базе вуза,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мии, дипломы, награды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Calibri"/>
              </a:rPr>
              <a:t>Подготовка высококвалифицированных кадров (аспирантура) в 2005 г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1484280"/>
          <a:ext cx="8785440" cy="6332400"/>
        </p:xfrm>
        <a:graphic>
          <a:graphicData uri="http://schemas.openxmlformats.org/drawingml/2006/table">
            <a:tbl>
              <a:tblPr/>
              <a:tblGrid>
                <a:gridCol w="2233800"/>
                <a:gridCol w="574560"/>
                <a:gridCol w="649440"/>
                <a:gridCol w="647640"/>
                <a:gridCol w="647640"/>
                <a:gridCol w="647640"/>
                <a:gridCol w="792360"/>
                <a:gridCol w="649080"/>
                <a:gridCol w="792360"/>
                <a:gridCol w="503280"/>
                <a:gridCol w="647640"/>
              </a:tblGrid>
              <a:tr h="459000">
                <a:tc rowSpan="3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аспира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до окончания с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й выпуск 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 защитой диссер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иранты, обучающиеся за счет средств федерального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аспиранты – граждане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иранты, обучающиеся по прямым договорам с оплатой стоимост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аспиранты – граждане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 аспира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т.ч. аспирантов – граждан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Васильев Роман</cp:lastModifiedBy>
  <dcterms:modified xsi:type="dcterms:W3CDTF">2008-01-24T16:07:14Z</dcterms:modified>
  <cp:revision>144</cp:revision>
  <dc:subject/>
  <dc:title>Итоговая сессия Ученого совета РГГМУ</dc:title>
</cp:coreProperties>
</file>